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4C3E-632B-4F91-B464-8024C7A1C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7F63-196D-4792-BE85-3F632748B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F68F-AAE8-4761-BB38-3D84E6BFA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0B33-3327-4A2E-B13D-84EEB0916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8195-8850-47A9-98C9-6982CC154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2416-2CE8-4E73-A734-530A938B9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C028-FCF7-4965-816B-5D2E5ABB0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3A43-EC55-41BE-A8DC-08089F060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A410-29CA-4195-AA0F-72E25C595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CFD9-17A0-4C97-93A8-D8471C60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7C1B-8083-47D8-A96B-72C8E2417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01DC-F83C-4AB2-9147-2674DA7D0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F4A5-9976-4785-B5E0-C0696EE94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6A26-0339-4C6A-9881-B28D40F5F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F85D-47F1-48C4-A333-21625A8F0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91FC-32F2-48BF-8FC0-21E940C66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09CD-3AF4-4F2F-8387-2505C115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EC54-1E88-44B9-A32C-343D838FC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0E18-E30A-4E60-9723-BF9AC8901C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850D1-C11D-461E-8131-BCC5213DE53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11A8A-E032-46EF-8645-E39EF84F929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7D0A5-985B-499B-9E20-7326CB29EF7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2388F-90D7-46AE-93C5-2F9C8EA0E80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B2EF2-A78E-48A4-BB17-314673B34C6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DC80E-2F54-490A-A790-0595632D065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A38F-4724-400F-B7CD-1B59121781B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D4D84-E14F-4057-92F4-932A069366C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D11E8-F829-4F31-9147-A10299710FC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D4872-1D7C-4E90-AABD-D41D7C755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1F76-964F-4B64-B7E3-EAB70301D82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F9491-8444-4067-B97B-D7BC53BAD8B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A32BF-69B4-497C-8841-BDD5CFA152F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594E7-824A-46BD-A887-B9931BF2691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22DC8-F930-487C-8271-43516B66EB9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90E12-4222-459A-B71A-8CEE94515D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17437-9632-4FD7-8A5D-C44D6497DB2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0ADE1-C162-451B-8397-B2C623320BC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6925B-7384-4456-909D-A5B38F0D0A9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413C3E-1F90-4512-B114-49E01601EAF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DABA1-4A4F-4BBB-93E3-33FDE8839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4A2B-F6F4-44DE-B33A-2368C618C3D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E4474-5561-4998-9055-C3B1BA28036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C58ACD-D2B5-472C-BFF6-42BBBD0C6C3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BBD155-2165-47EA-B537-D48C0905BB4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653F90-433F-4EDB-9C36-DB3B575A48C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2B7F84-1F78-4943-8475-F4591BE83C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575159-E42E-4566-98D9-85AB9D4F634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D28476-C949-4B46-B70D-AE647C864B8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21ABDE-EE53-412B-A6E4-71698BFAAE7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711499-86B3-4991-861B-D5C34B96054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054CF7-BC51-4956-BA7C-534B45A30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02AEE-70B8-46BE-8D3A-EC5DC3ED5A7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456547-68A3-426E-BAC2-61782911FB5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A14DB8-B0AB-402C-858C-45B990B05DE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984B9F-C01F-4634-956A-D9D7877F63A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13021-5B67-48D5-9D17-E769EEE16E4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DDE9D-BD21-485D-919E-9521E4217C7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15D85-4A02-4925-8762-BB33156D15A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1D80B-A29D-40F4-93CE-0830760800E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12F2A-1996-444B-ABBC-AAD38C60DB5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82188-ADD5-4DDF-ABFD-616D7C4DC61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E2B23-9B6A-4A7F-84B5-FF6F8161AC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2FB7F-6A17-4601-8F94-B1DDE3CA14C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AD0D6-67C9-4835-9458-F1919F8A88A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8C9B7-BB08-482F-AE97-503C655CFBD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1A4A7-B2A6-4072-8DFE-7385727374F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D6528-8BA4-4F26-8DC4-62D8F4D3A8D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97418-30A7-47F4-9D65-789694F00A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1723B-D649-49AB-A6D7-108FF94675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A6B29-B217-4E02-BD91-70778344DE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EC778-8C3D-4A99-B0CA-921F6B905F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77F4D-07F9-471F-A95E-FBF691FCA5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3B7B2-B4F1-4E84-863A-ED78122BB5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AF45-81BE-4280-A879-FB905A88F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6B96B-7915-42F4-840A-AB058CDD7C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9E926-5A0B-4B57-A013-4B923320A5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28F13-E6FA-4143-9AF8-690D506843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AE414-4CBA-44F6-94D2-2EEAF30399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7E355-4C7A-4205-92C4-A38A023ACC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5646-98BC-4E2B-8B81-81C2FD9FE9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B7A0-B6E8-410A-866F-44E5C8105A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A34C-F6CA-486A-AEE8-C254B55452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6E8F-D333-4FE5-8F36-E9EF7D8695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BD5E-9D48-48EF-B4EB-F9888F297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FAF4-97A0-438E-B45C-2962C4BBDB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5346-7488-4E67-AD32-CAE586CF6A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9385-7BE6-46E9-B596-9993F421F3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3B80-99B4-4318-B2A3-CCBE155CA6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B200-D6C8-4185-A607-C2754EE31C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3118-A1AA-4D62-8654-411F7D53CE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FFC4-BF90-430F-8C42-D6ADF715A7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890E-6714-47F2-ACBB-9E441B1D47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A6740-B9F1-4B01-AB1A-96459FC5DE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5B649-1DC3-468E-8F3D-3B765FBDF2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9626B-A957-4E4F-A1E9-7DD3764BC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502B-46E8-4707-9D9E-EAC32B4781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E8ACF-0906-4042-86D0-9E449848D1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A9FE8-CFD1-49CE-9EE0-A50181881C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4A895-D4AC-48D5-9EBF-EE1F0ABD9E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D3F32-658A-407A-A77F-F7F5888ED8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3E8EE-63C2-413B-949D-9752F2C866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240FD-222A-45E6-80E1-8BB0582659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DACCC-3596-472A-BA3E-52149E5338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37D51-AB85-416D-A44A-7C09A46E19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9ABBF-2BA8-48C5-816F-B7DF7CA167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9894AB-711E-4E87-A3DC-DD9E9541B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3C4C-9820-4F92-8B97-8289FF72319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E882E6-CE84-4E8B-B96C-C2DEB1F64A3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ECD89-6215-4C57-AF92-A1D5F4E41CC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6A36A-B73E-4165-ACC5-F6662321947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BFE073-11FE-4581-A8C4-63360AF18C9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ED062-5119-4F1C-BA6C-17836B3454C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AD5317-0011-44AA-ABEB-CF2FB10DF4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C32602-6EB1-40F1-B6F0-F204E0CC2A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2EA2C9-1A23-4F58-B797-1109EE8C81E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F5E3D-3924-4478-8C46-98D52E90C9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ECD88-AAAA-4581-A624-988C58397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CBF2-18B2-4791-8A34-F5AC884D17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4136A-5E0D-4F87-9B59-F6996CB0EF8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AE58E-A590-4B3A-AED3-7E04493F95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F7D1-5477-4B46-B498-F69E42AC1C2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177C-9162-40EE-8AB8-88256B3A18C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EA20A-905E-43E6-879E-997C4E41D52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6E39-578C-4672-83B2-C8D1BE74EF4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30FD-31E6-4F02-981F-53165AD08F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4FA4C-65CC-4554-97FD-A07405B8F7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4CDA7-BD26-42C8-8872-519333D06C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4FC9D-20F4-40E9-B1AB-ABE557EE9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987D-6F81-405D-A215-44C1C3B5F1F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094AE-AA34-49AB-953E-53646649540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11B5E-2562-4D0D-B81E-B3F61555C8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968CE-1723-4ABD-985F-B8275847BD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4550A-3DF2-4DE1-AD5D-818BAF6BF7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9A97A-2270-4643-BED1-751E0369840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5A190-E32C-43F9-814C-4734616BFF5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04939-7685-4B58-A983-B1097886EA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0FDCC-08A9-422A-AAA2-749C4ABA8E9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981FC-9737-49B0-80DE-E30DB8659D7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F4076-2FF9-42C2-9FE4-124BF2000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929C-012B-4519-9122-DFFE134D9B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26703-FBC7-4EC6-9400-52E8CACE66E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917AE-EB80-4171-B51C-01DC117E07A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4DFB0-729D-4D21-8CEE-91A86A08CF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DC2FF-8B34-44CA-9115-9D9FCB61C23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97EDB-D9EF-4CE9-8A50-FCBC3F34261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C940D4-16D4-463A-86CF-4FB4D068DD4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2B492D-2F97-4E04-835F-04AE72B0AB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9C2FA8-E31C-4770-94E3-CAA26E4F877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91B115-98AD-4036-A911-93A7BB39466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BBB132-D6B8-49DD-B340-AF3DA1316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C849-9CEA-4222-B20C-7855E812961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C77289-8379-4969-A00B-6ABF46C1FA5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53EC31-C063-4B35-8981-A698F4487C6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8F7BA9-5E76-4DCB-ACA3-469D707BDA3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5C12AF-C111-4B44-81A3-791F9D4827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490376-1BDE-4861-8B29-45A47C94E81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BE558D-BE4B-4F5A-92FB-0CD90A12EE8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DA1C87-DC24-4523-AF78-41C195A79DB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3150F-339F-414D-917F-ACA4802F258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44768-AA8D-4822-BAD9-1DDFBB9AC99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58DF5-B1C2-4C89-AF13-031D80FC5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197F9D3D-E215-4318-81DB-5251659E03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1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10D50495-566F-466A-AE21-10B1BF3A7D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2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11E36C02-AD15-4708-91D7-6ADEAB9CD4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90E428FC-6420-45A9-8B1F-5D5E47D4E8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C74E9C53-6D74-46BE-8D86-7C765992E9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2A585D02-0780-42B5-A841-7AE5DCF06E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618CE657-E358-4B29-B2C1-8B9801219A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F9EAAB8E-4414-4452-AA92-908448A5C5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B9885B21-FDCA-4CA0-A063-46E2277803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7CE438C2-5BB4-47BF-879A-4543E8CAAF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02634A85-2DD5-42F9-B560-6C9D56894B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39873702-0A14-48B7-8FC5-9F6B8213F2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D483B8BC-5741-4898-B0ED-C209520CE3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783900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ish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un is a word used to identify people, animals, places, things, or ideas. Unlike English, all Spanish nouns, even those that refer to non-living things, have gender; that is, they are considered either masculine or feminine. As in English, nouns in Spanish also have number, meaning that they are either singular or pl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anteTodo"/>
          <p:cNvPicPr/>
          <p:nvPr/>
        </p:nvPicPr>
        <p:blipFill>
          <a:blip r:embed="rId1"/>
          <a:stretch/>
        </p:blipFill>
        <p:spPr>
          <a:xfrm>
            <a:off x="736560" y="224784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A031626F-3BB6-43BE-8552-0CF7B599A3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ral of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anish, nouns that end in a vowel form the plural by add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ouns that end in a consonant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ouns that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c01l01_p013_02"/>
          <p:cNvPicPr/>
          <p:nvPr/>
        </p:nvPicPr>
        <p:blipFill>
          <a:blip r:embed="rId1"/>
          <a:stretch/>
        </p:blipFill>
        <p:spPr>
          <a:xfrm>
            <a:off x="304920" y="4275000"/>
            <a:ext cx="8555040" cy="13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C0DF607E-74C1-4E72-BABE-976A3C7BF4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when a singular noun has an accent mark on the last syllable, the accent is dropped from the plural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c01l01_p013_03"/>
          <p:cNvPicPr/>
          <p:nvPr/>
        </p:nvPicPr>
        <p:blipFill>
          <a:blip r:embed="rId1"/>
          <a:stretch/>
        </p:blipFill>
        <p:spPr>
          <a:xfrm>
            <a:off x="457200" y="3149640"/>
            <a:ext cx="82296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31D3D007-0371-43C4-AC82-9ABCBEAC57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masculine plural form to refer to a group that includes both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c01l01_p013_04"/>
          <p:cNvPicPr/>
          <p:nvPr/>
        </p:nvPicPr>
        <p:blipFill>
          <a:blip r:embed="rId1"/>
          <a:stretch/>
        </p:blipFill>
        <p:spPr>
          <a:xfrm>
            <a:off x="457200" y="2793960"/>
            <a:ext cx="822960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BE1F74FA-07EF-41B1-86A2-571AD99C5D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ish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know, English often uses definite article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indefinite articl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efore nouns. Spanish also has definite and indefinite articles. Unlike English, Spanish articles vary in form because they agree in gender and number with the nouns they mod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anteTodo"/>
          <p:cNvPicPr/>
          <p:nvPr/>
        </p:nvPicPr>
        <p:blipFill>
          <a:blip r:embed="rId1"/>
          <a:stretch/>
        </p:blipFill>
        <p:spPr>
          <a:xfrm>
            <a:off x="736560" y="224784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226C7220-9F93-40D2-AB78-0151CE091D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5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s four forms that are equivalent to the English definite artic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You use definite articles to refer to specific nou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c01l01_p014_01"/>
          <p:cNvPicPr/>
          <p:nvPr/>
        </p:nvPicPr>
        <p:blipFill>
          <a:blip r:embed="rId1"/>
          <a:stretch/>
        </p:blipFill>
        <p:spPr>
          <a:xfrm>
            <a:off x="457200" y="2146320"/>
            <a:ext cx="8229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F0C74FA7-84D7-4ED9-A4D0-94E72997A72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finit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222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ish has four forms that are equivalent to the English indefinite article, which according to context may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You use indefinite articles to refer to unspecified persons or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c01l01_p014_02"/>
          <p:cNvPicPr/>
          <p:nvPr/>
        </p:nvPicPr>
        <p:blipFill>
          <a:blip r:embed="rId1"/>
          <a:stretch/>
        </p:blipFill>
        <p:spPr>
          <a:xfrm>
            <a:off x="457200" y="2082960"/>
            <a:ext cx="82296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7678BEFE-F65E-486C-8DCF-0C78DFE800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685800" y="2120760"/>
          <a:ext cx="7772400" cy="4264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591560">
                <a:tc gridSpan="2"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a definite article for each noun in the first column and an indefinite article for each noun in the second column. The first item has been done for you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264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h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h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mal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uader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ápi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muje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autobú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escuel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omputado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homb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seño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áp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45" name="Text Box 147"/>
          <p:cNvSpPr/>
          <p:nvPr/>
        </p:nvSpPr>
        <p:spPr>
          <a:xfrm>
            <a:off x="1418400" y="376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Comic Sans MS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66" descr="intentalo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99"/>
          <p:cNvSpPr/>
          <p:nvPr/>
        </p:nvSpPr>
        <p:spPr>
          <a:xfrm>
            <a:off x="5330880" y="376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13"/>
          <p:cNvSpPr/>
          <p:nvPr/>
        </p:nvSpPr>
        <p:spPr>
          <a:xfrm>
            <a:off x="838080" y="3363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el, la, los o l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214"/>
          <p:cNvSpPr/>
          <p:nvPr/>
        </p:nvSpPr>
        <p:spPr>
          <a:xfrm>
            <a:off x="838080" y="3317760"/>
            <a:ext cx="3124440" cy="457200"/>
          </a:xfrm>
          <a:prstGeom prst="flowChartTerminator">
            <a:avLst/>
          </a:prstGeom>
          <a:noFill/>
          <a:ln w="25560">
            <a:solidFill>
              <a:srgbClr val="e69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16"/>
          <p:cNvSpPr/>
          <p:nvPr/>
        </p:nvSpPr>
        <p:spPr>
          <a:xfrm>
            <a:off x="4673520" y="3361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un, una, unos o un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17"/>
          <p:cNvSpPr/>
          <p:nvPr/>
        </p:nvSpPr>
        <p:spPr>
          <a:xfrm>
            <a:off x="4673520" y="3317760"/>
            <a:ext cx="3048120" cy="457200"/>
          </a:xfrm>
          <a:prstGeom prst="flowChartTerminator">
            <a:avLst/>
          </a:prstGeom>
          <a:noFill/>
          <a:ln w="25560">
            <a:solidFill>
              <a:srgbClr val="e69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17857B9A-25CD-4C30-A93E-43AB523ECA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c01l01_p012_01"/>
          <p:cNvPicPr/>
          <p:nvPr/>
        </p:nvPicPr>
        <p:blipFill>
          <a:blip r:embed="rId1"/>
          <a:stretch/>
        </p:blipFill>
        <p:spPr>
          <a:xfrm>
            <a:off x="469800" y="1587600"/>
            <a:ext cx="82044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A50C5EBD-CA30-4A12-8A0A-1FC8F82079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hown above, nouns that ref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les,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homb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masculine, while nou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refer to females,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muj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enerally femin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697AE383-3943-4C24-AF05-010978173D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ouns that refer to male beings e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ir corresponding feminine forms e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pective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c01l01_p012_02"/>
          <p:cNvPicPr/>
          <p:nvPr/>
        </p:nvPicPr>
        <p:blipFill>
          <a:blip r:embed="rId1"/>
          <a:stretch/>
        </p:blipFill>
        <p:spPr>
          <a:xfrm>
            <a:off x="865080" y="3146400"/>
            <a:ext cx="74138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3947F26B-9C95-4577-9F9B-87CC2F72E6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culine and feminine form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ns that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, so gender is indicated by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sculine)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eminine). Some other nouns have identical masculine and feminine 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c01l01_p012_03"/>
          <p:cNvPicPr/>
          <p:nvPr/>
        </p:nvPicPr>
        <p:blipFill>
          <a:blip r:embed="rId1"/>
          <a:stretch/>
        </p:blipFill>
        <p:spPr>
          <a:xfrm>
            <a:off x="635040" y="4381560"/>
            <a:ext cx="78850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4B5991BA-9C10-4B5E-8577-AB147904A2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01l01_p013_01"/>
          <p:cNvPicPr/>
          <p:nvPr/>
        </p:nvPicPr>
        <p:blipFill>
          <a:blip r:embed="rId1"/>
          <a:stretch/>
        </p:blipFill>
        <p:spPr>
          <a:xfrm>
            <a:off x="1079640" y="1536840"/>
            <a:ext cx="69976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34F0496A-7950-4DB7-9433-A2231B4DB6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noun endings are strongly associated with a specific gender, so you can use them to determine if a noun is masculine or femin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141D6DD4-2470-4969-AFAE-F6C5232363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gender of nouns that refer to non-living things cannot be determined by foolproof rules, you should memorize the gender of each noun you learn. It is helpful to memorize each noun with its corresponding articl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sculine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emin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8B1ED64F-6C9E-4042-8AB8-0B1EEC4592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reason to memorize the gender of every noun is that there are common exceptions to the rules of gender. For exampl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map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dí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are masculine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ma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nd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is femin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Jose</cp:lastModifiedBy>
  <dcterms:modified xsi:type="dcterms:W3CDTF">2013-08-18T01:20:25Z</dcterms:modified>
  <cp:revision>42</cp:revision>
  <dc:subject/>
  <dc:title>PowerPoint Presentation</dc:title>
</cp:coreProperties>
</file>